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media/image12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2CB0-1AA5-4BED-B516-7990C199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9C0-B4FD-46D8-8AAD-DF31ACA6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D4AD-207E-46E9-A61A-A59413E3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E845-B3E9-4652-8CEF-962F61A4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4122-FE35-499E-AEC0-CAF54DB4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FB71-C88C-4396-8671-88F64ACA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A2C-CE2F-482A-9211-B46DE20A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826E-986D-4CC7-8E11-D10A308E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7FF3-231A-421C-81F9-16AB3462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F8BE-AF52-43C4-A375-59D763CA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3172-80CE-495C-B8EB-7BBFBDDA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9B48-B4F5-4113-A1D7-366502AE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0FFB-705D-44EC-ACD8-B587E1728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HGRI_human_male_karyotype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Karyogram of human male using Giemsa staining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Baveuse"/>
              </a:rPr>
              <a:t>GENETIC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09480" y="43434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551b"/>
                </a:solidFill>
                <a:latin typeface="Calibri"/>
              </a:rPr>
              <a:t>Section 11-1: The Work of Gregor Men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95680" y="151920"/>
            <a:ext cx="4191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. ALLE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51920" y="457200"/>
            <a:ext cx="5257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. These traits were passed through gene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Also call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Genes” to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Factors had two form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“Allel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=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different forms of the same g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. EX: height gene ha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tall &amp; short alle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. Capital letters =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DOMINAN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llel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. lowercase letters =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recessiv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llel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Content Placeholder 6" descr="alleles.gif"/>
          <p:cNvPicPr/>
          <p:nvPr/>
        </p:nvPicPr>
        <p:blipFill>
          <a:blip r:embed="rId1"/>
          <a:stretch/>
        </p:blipFill>
        <p:spPr>
          <a:xfrm>
            <a:off x="4495680" y="4002120"/>
            <a:ext cx="4400640" cy="2855880"/>
          </a:xfrm>
          <a:prstGeom prst="rect">
            <a:avLst/>
          </a:prstGeom>
          <a:ln w="0">
            <a:noFill/>
          </a:ln>
        </p:spPr>
      </p:pic>
      <p:pic>
        <p:nvPicPr>
          <p:cNvPr id="148" name="Content Placeholder 5" descr="chromosome"/>
          <p:cNvPicPr/>
          <p:nvPr/>
        </p:nvPicPr>
        <p:blipFill>
          <a:blip r:embed="rId2"/>
          <a:stretch/>
        </p:blipFill>
        <p:spPr>
          <a:xfrm>
            <a:off x="5105520" y="1066680"/>
            <a:ext cx="3886200" cy="26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. Simplest scenario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. For each trait an individual has two alleles: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one from each par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. In turn, each individual can only pass one or the other of its alleles to its offspring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. Mendel called this separation of allel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4000" spc="-1" strike="noStrike" u="sng">
                <a:solidFill>
                  <a:srgbClr val="800080"/>
                </a:solidFill>
                <a:uFillTx/>
                <a:latin typeface="Calibri"/>
              </a:rPr>
              <a:t>SEGREGATION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6" descr="mend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Phenotyp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tual appear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 think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o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The way the trait shows its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If T is the allele for tallness and t is the allele for a dwarf pla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TT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la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 Tt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al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. tt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war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l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F. Genetic Ex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4. Geno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The actua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gen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DNA) you have for a tra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 TT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Calibri"/>
              </a:rPr>
              <a:t>homozygous domin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. Tt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Calibri"/>
              </a:rPr>
              <a:t>heterozyg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. tt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Calibri"/>
              </a:rPr>
              <a:t>homozygous recessiv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 The letters represent actual genes inherited (one from each parent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ndel + Meio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Object 2"/>
          <p:cNvGraphicFramePr/>
          <p:nvPr/>
        </p:nvGraphicFramePr>
        <p:xfrm>
          <a:off x="609480" y="982800"/>
          <a:ext cx="807732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82800"/>
                    <a:ext cx="807732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. Gregor Men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371240"/>
            <a:ext cx="5486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Born 1822 in Czech Republ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Austrian mo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Worked in the garden at the monaste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Experimented with the plants in the garden: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EA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Set foundation for Gene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kentsimmons.uwinnipeg.ca/cm1504/Image215.gif"/>
          <p:cNvPicPr/>
          <p:nvPr/>
        </p:nvPicPr>
        <p:blipFill>
          <a:blip r:embed="rId1"/>
          <a:stretch/>
        </p:blipFill>
        <p:spPr>
          <a:xfrm>
            <a:off x="5867280" y="457200"/>
            <a:ext cx="304812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. Flower reproduction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(see Ch 24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6553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Fertilization within same pl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“self-pollinatio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men (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nth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where meiosis makes poll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ila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sta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pel (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em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tigm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sticky, receptive p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tyl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v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where meiosis makes eg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fertilization6"/>
          <p:cNvPicPr/>
          <p:nvPr/>
        </p:nvPicPr>
        <p:blipFill>
          <a:blip r:embed="rId1"/>
          <a:stretch/>
        </p:blipFill>
        <p:spPr>
          <a:xfrm>
            <a:off x="6788160" y="1752480"/>
            <a:ext cx="2355840" cy="3276720"/>
          </a:xfrm>
          <a:prstGeom prst="rect">
            <a:avLst/>
          </a:prstGeom>
          <a:ln w="0">
            <a:noFill/>
          </a:ln>
        </p:spPr>
      </p:pic>
      <p:sp>
        <p:nvSpPr>
          <p:cNvPr id="88" name="WordArt 6"/>
          <p:cNvSpPr txBox="1"/>
          <p:nvPr/>
        </p:nvSpPr>
        <p:spPr>
          <a:xfrm>
            <a:off x="457200" y="5562720"/>
            <a:ext cx="752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ow did Mendel cross pollinate the peas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Content Placeholder 6" descr="pollinating.gif"/>
          <p:cNvPicPr/>
          <p:nvPr/>
        </p:nvPicPr>
        <p:blipFill>
          <a:blip r:embed="rId1"/>
          <a:stretch/>
        </p:blipFill>
        <p:spPr>
          <a:xfrm>
            <a:off x="7048440" y="3657600"/>
            <a:ext cx="2095560" cy="2314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C. Mendel’s Experi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Mendel manuall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ross pollina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pea plants in his gar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He use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“true-breeding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r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This meant that those pla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oduced offspring that looke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dentical to the par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He would cross one type of pea with an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He called the offspri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ybr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He used seven traits in his experi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. Generation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 g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Mendel manually fertilized one pea plant with another to produc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1 g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ilial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. He let these offspring self-pollinate to produc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2 g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ilial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FYI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animals: you can think of these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. 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your mom &amp; dad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F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your kids some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. In genetic experiments, F2 does not have to be “selfed” but it often is.  This should be specif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ndel’s 7 Pea Tra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457200" y="1143000"/>
            <a:ext cx="8229600" cy="4982760"/>
            <a:chOff x="457200" y="1143000"/>
            <a:chExt cx="8229600" cy="4982760"/>
          </a:xfrm>
        </p:grpSpPr>
        <p:pic>
          <p:nvPicPr>
            <p:cNvPr id="96" name="Picture 11" descr="bio_ch11_4057"/>
            <p:cNvPicPr/>
            <p:nvPr/>
          </p:nvPicPr>
          <p:blipFill>
            <a:blip r:embed="rId1"/>
            <a:stretch/>
          </p:blipFill>
          <p:spPr>
            <a:xfrm>
              <a:off x="457200" y="1143000"/>
              <a:ext cx="8229600" cy="49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2"/>
            <p:cNvSpPr/>
            <p:nvPr/>
          </p:nvSpPr>
          <p:spPr>
            <a:xfrm>
              <a:off x="1096920" y="1328400"/>
              <a:ext cx="579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Seed Shap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528960" y="1328400"/>
              <a:ext cx="651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Flower Positio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 Box 14"/>
            <p:cNvSpPr/>
            <p:nvPr/>
          </p:nvSpPr>
          <p:spPr>
            <a:xfrm>
              <a:off x="2919600" y="1328400"/>
              <a:ext cx="108612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7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Seed Coa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7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Colo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1977840" y="1328400"/>
              <a:ext cx="579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Seed Colo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 Box 16"/>
            <p:cNvSpPr/>
            <p:nvPr/>
          </p:nvSpPr>
          <p:spPr>
            <a:xfrm>
              <a:off x="5297400" y="1328400"/>
              <a:ext cx="579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od Colo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 Box 17"/>
            <p:cNvSpPr/>
            <p:nvPr/>
          </p:nvSpPr>
          <p:spPr>
            <a:xfrm>
              <a:off x="7784280" y="1328400"/>
              <a:ext cx="579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lant Heigh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 Box 18"/>
            <p:cNvSpPr/>
            <p:nvPr/>
          </p:nvSpPr>
          <p:spPr>
            <a:xfrm>
              <a:off x="4102560" y="1328400"/>
              <a:ext cx="5792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7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o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7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Shap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 Box 19"/>
            <p:cNvSpPr/>
            <p:nvPr/>
          </p:nvSpPr>
          <p:spPr>
            <a:xfrm>
              <a:off x="1091520" y="1893600"/>
              <a:ext cx="65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Roun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 Box 20"/>
            <p:cNvSpPr/>
            <p:nvPr/>
          </p:nvSpPr>
          <p:spPr>
            <a:xfrm>
              <a:off x="984240" y="3668760"/>
              <a:ext cx="83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Wrinkl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 Box 21"/>
            <p:cNvSpPr/>
            <p:nvPr/>
          </p:nvSpPr>
          <p:spPr>
            <a:xfrm>
              <a:off x="1046160" y="5572080"/>
              <a:ext cx="65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Roun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 Box 22"/>
            <p:cNvSpPr/>
            <p:nvPr/>
          </p:nvSpPr>
          <p:spPr>
            <a:xfrm>
              <a:off x="1951920" y="1893600"/>
              <a:ext cx="66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Yel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 Box 23"/>
            <p:cNvSpPr/>
            <p:nvPr/>
          </p:nvSpPr>
          <p:spPr>
            <a:xfrm>
              <a:off x="1913760" y="366876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Gree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 Box 24"/>
            <p:cNvSpPr/>
            <p:nvPr/>
          </p:nvSpPr>
          <p:spPr>
            <a:xfrm>
              <a:off x="2991960" y="1893600"/>
              <a:ext cx="52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Gra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 Box 25"/>
            <p:cNvSpPr/>
            <p:nvPr/>
          </p:nvSpPr>
          <p:spPr>
            <a:xfrm>
              <a:off x="2892600" y="366876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Whi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 Box 26"/>
            <p:cNvSpPr/>
            <p:nvPr/>
          </p:nvSpPr>
          <p:spPr>
            <a:xfrm>
              <a:off x="3979080" y="189360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moot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 Box 27"/>
            <p:cNvSpPr/>
            <p:nvPr/>
          </p:nvSpPr>
          <p:spPr>
            <a:xfrm>
              <a:off x="3905280" y="366876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Constrict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ext Box 28"/>
            <p:cNvSpPr/>
            <p:nvPr/>
          </p:nvSpPr>
          <p:spPr>
            <a:xfrm>
              <a:off x="5226120" y="189360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Gree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 Box 29"/>
            <p:cNvSpPr/>
            <p:nvPr/>
          </p:nvSpPr>
          <p:spPr>
            <a:xfrm>
              <a:off x="5170320" y="3668760"/>
              <a:ext cx="66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Yel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 Box 30"/>
            <p:cNvSpPr/>
            <p:nvPr/>
          </p:nvSpPr>
          <p:spPr>
            <a:xfrm>
              <a:off x="6548400" y="1893600"/>
              <a:ext cx="52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x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 Box 31"/>
            <p:cNvSpPr/>
            <p:nvPr/>
          </p:nvSpPr>
          <p:spPr>
            <a:xfrm>
              <a:off x="6501240" y="366876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ermin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Text Box 32"/>
            <p:cNvSpPr/>
            <p:nvPr/>
          </p:nvSpPr>
          <p:spPr>
            <a:xfrm>
              <a:off x="7705080" y="189360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al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 Box 33"/>
            <p:cNvSpPr/>
            <p:nvPr/>
          </p:nvSpPr>
          <p:spPr>
            <a:xfrm>
              <a:off x="7742880" y="3668760"/>
              <a:ext cx="57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hor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 Box 34"/>
            <p:cNvSpPr/>
            <p:nvPr/>
          </p:nvSpPr>
          <p:spPr>
            <a:xfrm>
              <a:off x="1911240" y="5572080"/>
              <a:ext cx="66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Yel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 Box 35"/>
            <p:cNvSpPr/>
            <p:nvPr/>
          </p:nvSpPr>
          <p:spPr>
            <a:xfrm>
              <a:off x="2920680" y="5572080"/>
              <a:ext cx="52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Gra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 Box 36"/>
            <p:cNvSpPr/>
            <p:nvPr/>
          </p:nvSpPr>
          <p:spPr>
            <a:xfrm>
              <a:off x="3930480" y="557208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moot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5141520" y="557208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Gree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6498360" y="5572080"/>
              <a:ext cx="52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x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649280" y="557208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al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Curved Right Arrow 33"/>
          <p:cNvSpPr/>
          <p:nvPr/>
        </p:nvSpPr>
        <p:spPr>
          <a:xfrm rot="3194400">
            <a:off x="1039680" y="73080"/>
            <a:ext cx="655560" cy="1630080"/>
          </a:xfrm>
          <a:custGeom>
            <a:avLst/>
            <a:gdLst>
              <a:gd name="textAreaLeft" fmla="*/ 87840 w 655560"/>
              <a:gd name="textAreaRight" fmla="*/ 567720 w 655560"/>
              <a:gd name="textAreaTop" fmla="*/ 360720 h 1630080"/>
              <a:gd name="textAreaBottom" fmla="*/ 1128240 h 163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66" stAng="-5400000" swAng="-5400000"/>
                <a:lnTo>
                  <a:pt x="0" y="10167"/>
                </a:lnTo>
                <a:arcTo wR="21600" hR="9566" stAng="10800000" swAng="-3585359"/>
                <a:lnTo>
                  <a:pt x="16200" y="21296"/>
                </a:lnTo>
                <a:lnTo>
                  <a:pt x="21600" y="19432"/>
                </a:lnTo>
                <a:lnTo>
                  <a:pt x="16200" y="16959"/>
                </a:lnTo>
                <a:lnTo>
                  <a:pt x="16200" y="18827"/>
                </a:lnTo>
                <a:arcTo wR="21600" hR="9566" stAng="7214641" swAng="3537512"/>
                <a:lnTo>
                  <a:pt x="11" y="9866"/>
                </a:lnTo>
                <a:arcTo wR="21600" hR="9566" stAng="-10752153" swAng="5352153"/>
                <a:close/>
              </a:path>
              <a:path fill="darkenLess" w="21600" h="21600">
                <a:moveTo>
                  <a:pt x="21600" y="0"/>
                </a:moveTo>
                <a:arcTo wR="21600" hR="9566" stAng="-5400000" swAng="-5400000"/>
                <a:lnTo>
                  <a:pt x="0" y="9566"/>
                </a:lnTo>
                <a:arcTo wR="21600" hR="9566" stAng="10800000" swAng="-47847"/>
                <a:lnTo>
                  <a:pt x="11" y="9866"/>
                </a:lnTo>
                <a:arcTo wR="21600" hR="9566" stAng="-10752153" swAng="535215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D. Results of Mendel’s Experi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371240"/>
            <a:ext cx="6705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When Mendel crossed one type by the other for each tra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 (eg. Green x yellow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nly one of the traits showed up in the offsp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 Mendel called this trai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Calibri"/>
              </a:rPr>
              <a:t>DOMINAN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Was the other variety of the trait gone forev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6858000" y="1523880"/>
            <a:ext cx="2120400" cy="4190760"/>
            <a:chOff x="6858000" y="1523880"/>
            <a:chExt cx="2120400" cy="4190760"/>
          </a:xfrm>
        </p:grpSpPr>
        <p:graphicFrame>
          <p:nvGraphicFramePr>
            <p:cNvPr id="129" name="Object 2"/>
            <p:cNvGraphicFramePr/>
            <p:nvPr/>
          </p:nvGraphicFramePr>
          <p:xfrm>
            <a:off x="6858000" y="1523880"/>
            <a:ext cx="711720" cy="1396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0" y="1523880"/>
                      <a:ext cx="711720" cy="139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Object 3"/>
            <p:cNvGraphicFramePr/>
            <p:nvPr/>
          </p:nvGraphicFramePr>
          <p:xfrm>
            <a:off x="8359560" y="1934640"/>
            <a:ext cx="483480" cy="889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59560" y="1934640"/>
                      <a:ext cx="483480" cy="88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" name="Object 4"/>
            <p:cNvGraphicFramePr/>
            <p:nvPr/>
          </p:nvGraphicFramePr>
          <p:xfrm>
            <a:off x="6936120" y="2920680"/>
            <a:ext cx="555120" cy="808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4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36120" y="2920680"/>
                      <a:ext cx="555120" cy="80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Object 5"/>
            <p:cNvGraphicFramePr/>
            <p:nvPr/>
          </p:nvGraphicFramePr>
          <p:xfrm>
            <a:off x="8224560" y="2838600"/>
            <a:ext cx="753840" cy="944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6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224560" y="2838600"/>
                      <a:ext cx="753840" cy="94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" name="Object 6"/>
            <p:cNvGraphicFramePr/>
            <p:nvPr/>
          </p:nvGraphicFramePr>
          <p:xfrm>
            <a:off x="7242480" y="4317840"/>
            <a:ext cx="711000" cy="1396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8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42480" y="4317840"/>
                      <a:ext cx="711000" cy="139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Object 7"/>
            <p:cNvGraphicFramePr/>
            <p:nvPr/>
          </p:nvGraphicFramePr>
          <p:xfrm>
            <a:off x="8011080" y="4728600"/>
            <a:ext cx="554760" cy="807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0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011080" y="4728600"/>
                      <a:ext cx="554760" cy="80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" name="AutoShape 11"/>
            <p:cNvSpPr/>
            <p:nvPr/>
          </p:nvSpPr>
          <p:spPr>
            <a:xfrm>
              <a:off x="7626600" y="3742560"/>
              <a:ext cx="597960" cy="575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AutoShape 12"/>
            <p:cNvSpPr/>
            <p:nvPr/>
          </p:nvSpPr>
          <p:spPr>
            <a:xfrm rot="2511600">
              <a:off x="7743600" y="2376360"/>
              <a:ext cx="341640" cy="328680"/>
            </a:xfrm>
            <a:prstGeom prst="plus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04-mendel-1st-exp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. The other trait from the P generation showed up again in t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F2 genera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. Mendel called this trait </a:t>
            </a:r>
            <a:r>
              <a:rPr b="1" i="1" lang="en-US" sz="4000" spc="-1" strike="noStrike">
                <a:solidFill>
                  <a:srgbClr val="800080"/>
                </a:solidFill>
                <a:latin typeface="Calibri"/>
              </a:rPr>
              <a:t>RECESSIVE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. Mendel called this the </a:t>
            </a:r>
            <a:r>
              <a:rPr b="1" i="1" lang="en-US" sz="4000" spc="-1" strike="noStrike">
                <a:solidFill>
                  <a:srgbClr val="800080"/>
                </a:solidFill>
                <a:latin typeface="Calibri"/>
              </a:rPr>
              <a:t>Principal of Dominanc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 some alleles are dominant &amp; some are recess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0:41:09Z</dcterms:created>
  <dc:creator>Joanne Lilliendahl</dc:creator>
  <dc:description/>
  <dc:language>en-US</dc:language>
  <cp:lastModifiedBy>udsd</cp:lastModifiedBy>
  <dcterms:modified xsi:type="dcterms:W3CDTF">2009-04-01T21:21:18Z</dcterms:modified>
  <cp:revision>21</cp:revision>
  <dc:subject/>
  <dc:title>GENETICS</dc:title>
</cp:coreProperties>
</file>